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396E3-DDBC-4E74-8A63-82EC6F9A2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37D78-A64E-465A-808C-ED0F2B37D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869F3-E7D1-4472-8525-A7139005A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7F939-A2D7-4440-92A7-8FB9D8C44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A95A0-64CA-432C-BF37-6E49C3E04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0A447-477E-4DC3-BDB1-FDE13DB43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0C97D-8B72-4D09-85F2-FC586CAE0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6C602-A196-4AAB-8743-41FBB2967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1F3C6-AF0B-4ADF-B3E4-660D15CF2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C7474-633B-479C-AD05-03AE67576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70178-FC6D-4AA2-910D-D5F779572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405B6-72B5-4ECB-8C7B-A25A48B07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83CF4-C082-4D86-93AC-101145BCB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20D7E-5522-4570-AED7-8999B47F2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2F4C8-477D-44A0-9754-5599AABFF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58E64-55EB-46CC-B6B1-3AADFB3DE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E8593-4DFA-45BE-955B-3E69FE739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D0B54-279B-40AA-8E85-51706775E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F29D7-227E-4488-B29D-47647F354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79EF9-110B-45E8-8974-D10175F52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D677F-D3FB-44AC-B326-3D1714FF0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98D6F-91A2-4017-9E0E-DDD07037A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609A2-F0EC-4728-9F47-E382DD8B9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5DB35-88EF-4BDD-9C60-504CE9134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AAB5-E035-4D3D-A35A-BD04C1833E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682E-FB52-4FBF-B42B-D40C7DE476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nglish</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iting Day 3!!! Fun Stuf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genda</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share Homework (DOL and stor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about something in the roo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st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riting pac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OL</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ly you write good but today you have to many short sentences in youre essay</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an accomplished athlete youll have to run faster than bobbi has ran said coach gonzalez</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alogies:</a:t>
            </a: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______________: brought :: wake : woke</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tinum : diamond :: ________________ : gemstone</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mework</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Let’s discus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o think about:</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of an iceberg is actually hidden under water. Think of this in descriptive writ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
          <p:cNvSpPr/>
          <p:nvPr/>
        </p:nvSpPr>
        <p:spPr>
          <a:xfrm>
            <a:off x="0" y="5790960"/>
            <a:ext cx="8947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sensory details - the five sens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figurative language - metaphors, similes, personification, alliteration, imagery, etc</a:t>
            </a:r>
            <a:br>
              <a:rPr sz="1800"/>
            </a:br>
            <a:r>
              <a:rPr b="0" lang="en-US" sz="1800" spc="-1" strike="noStrike">
                <a:solidFill>
                  <a:srgbClr val="ffffff"/>
                </a:solidFill>
                <a:latin typeface="Arial"/>
              </a:rPr>
              <a:t>Requires observation</a:t>
            </a:r>
            <a:br>
              <a:rPr sz="1800"/>
            </a:br>
            <a:endParaRPr b="0" lang="en-US" sz="1800" spc="-1" strike="noStrike">
              <a:solidFill>
                <a:srgbClr val="ffffff"/>
              </a:solidFill>
              <a:latin typeface="Arial"/>
            </a:endParaRPr>
          </a:p>
        </p:txBody>
      </p:sp>
      <p:pic>
        <p:nvPicPr>
          <p:cNvPr id="93" name="" descr=""/>
          <p:cNvPicPr/>
          <p:nvPr/>
        </p:nvPicPr>
        <p:blipFill>
          <a:blip r:embed="rId2"/>
          <a:stretch/>
        </p:blipFill>
        <p:spPr>
          <a:xfrm>
            <a:off x="4419720" y="1219320"/>
            <a:ext cx="3914640" cy="442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ssignment 1</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one object in the room and describe it in one full paragraph.  Describe it so clearly that when you read it, we will be able to guess what it is. If you describe a person, be posi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ssignment 2</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St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02:39:10Z</dcterms:created>
  <dc:creator>Angie</dc:creator>
  <dc:description/>
  <dc:language>en-US</dc:language>
  <cp:lastModifiedBy>Angie</cp:lastModifiedBy>
  <dcterms:modified xsi:type="dcterms:W3CDTF">2010-08-19T03:43:10Z</dcterms:modified>
  <cp:revision>4</cp:revision>
  <dc:subject/>
  <dc:title>English</dc:title>
</cp:coreProperties>
</file>